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D13-0E80-40C3-B06D-54F65517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CFF-E512-46AE-8CDC-BF50E12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F76-406B-4835-8BF7-04ACFD17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CDC-240C-40FF-97E7-335DDE06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7483-C3E6-4F8E-992C-2C0EC8E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5D8-5B69-4D38-AA3E-E9D61670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197-9768-4FC9-ADF1-36B599D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544-9B40-4938-9F10-1F318350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52B6-EA3E-4FAE-81C5-1377AE6C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4B62-F9B0-43D6-A452-96DFA0F8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E43-A4E7-4EDB-B096-84E251C2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300-5568-4D3B-BC54-385A7FC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286E-EDA0-4048-92BD-31358241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DE6-0FBC-4F35-9443-8122227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5AB-A6B5-4449-8670-046DA16D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68D-A508-46D4-9BE4-DD462924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A29-5E30-429C-954D-16405F98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16E-3028-4A68-A6D0-21D9AB53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BC6-B72B-43D7-B96F-F620EFD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8CA-8901-463E-AEC6-AEBC6D0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A9D-2151-4A8D-89FE-FE8D930A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8D9-5C96-4015-84B5-CCEEB34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C1F-0D92-48C2-96C8-EFDD6FF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15C-B60F-42ED-A086-98963E5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2DF-3F1A-44AE-89F4-D80578CF438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A43-AA27-4A92-AC33-3C4731D4C4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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8435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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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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</a:t>
            </a:r>
            <a:r>
              <a:rPr b="1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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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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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2870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omas Malthu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9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ismal science of econom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ulation growth will exceed the food supp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mine, war, disaster needed to keep population in che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62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384480"/>
            <a:ext cx="863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LARENCE"/>
                <a:ea typeface="CLARENCE"/>
              </a:rPr>
              <a:t>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LARENCE"/>
                <a:ea typeface="CLARENCE"/>
              </a:rPr>
              <a:t>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LARENCE"/>
                <a:ea typeface="CLARENCE"/>
              </a:rPr>
              <a:t>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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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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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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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</a:t>
            </a:r>
            <a:r>
              <a:rPr b="0" lang="en-US" sz="4400" spc="-1" strike="noStrike" baseline="30000">
                <a:solidFill>
                  <a:srgbClr val="ffffcc"/>
                </a:solidFill>
                <a:latin typeface="CLARENCE"/>
                <a:ea typeface="CLARENCE"/>
              </a:rPr>
              <a:t>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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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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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569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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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–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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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–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3222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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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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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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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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49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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569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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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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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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2860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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38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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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8815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" y="-319572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9000" rIns="549000" tIns="549000" bIns="54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an Railroad Expansion, 1825-187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ta are kilometers of railroad track in use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" y="91710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Compiled from data in B.R. Mitchell, </a:t>
            </a: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a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storical Statistics, 1750-1970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London: Macmillan, 1975), pp. 581-58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7970" t="0" r="17188" b="17970"/>
          <a:stretch/>
        </p:blipFill>
        <p:spPr>
          <a:xfrm>
            <a:off x="838080" y="304920"/>
            <a:ext cx="7467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40" y="531000"/>
            <a:ext cx="8955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vid Ricar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676520"/>
            <a:ext cx="5029200" cy="41907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ron Law of Wag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1240" y="12952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 population = High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5040" y="30481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pop. grow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2000" y="586728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pop. 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pop. dec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905120"/>
            <a:ext cx="23623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3581280"/>
            <a:ext cx="20574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133720" y="3580920"/>
            <a:ext cx="22860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1904760"/>
            <a:ext cx="2210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49:51Z</dcterms:created>
  <dc:creator>Computer Services</dc:creator>
  <dc:description/>
  <dc:language>en-US</dc:language>
  <cp:lastModifiedBy>Susan Vanderpool</cp:lastModifiedBy>
  <dcterms:modified xsi:type="dcterms:W3CDTF">2009-01-04T03:05:29Z</dcterms:modified>
  <cp:revision>4</cp:revision>
  <dc:subject/>
  <dc:title>Tuesday Tidings</dc:title>
</cp:coreProperties>
</file>